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7025-5117-4EDE-9BB9-C3DE795A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20B5-AA8A-401F-89A7-9A0798AE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B7D0-E206-47D0-8942-C706687A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11FB-181E-4A5B-99B2-CAF2C4CC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F9F7-9699-4624-871D-1C860C61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AF24-9894-4C9A-AC9D-50BBA1E8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129D-B8F8-4010-AA13-7FFB9008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03E7-E7AD-4FE7-9A54-7A0AF458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FA68-F53F-4E96-AA5B-C04EF9C1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1C15-22F6-4D6F-8C23-462F602D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30CC-F1C3-47B4-9CAC-B84A5998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CD30-0F97-4B61-9EA3-02994AD0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C872-0A9D-460A-97C4-B2D42378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63FD-771F-4CD6-ABC6-0D642A56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95D4-D575-4498-BF7B-9AD856F2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A5A9-FEF2-4CFC-9754-B73F326E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D33D-448C-409E-B460-773D48CE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2D8C-5A98-4278-9884-6602CDB3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28DE-E2CA-4D48-B660-86192FA3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F009-D8A7-4E2F-9F2D-049D5E71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D2C8-57F8-4001-9E00-054CBDCB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24C5-0BBF-4FF7-81FF-9B03EBCF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B29B-87BA-43E1-9E6F-6F42EED1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58E7-A3B0-4350-A2FD-7849D7B0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8848-10BC-44A9-BBA1-08C953DF407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8FF5-715B-42B2-AA51-74A4DBDA363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e103"/>
                </a:solidFill>
                <a:latin typeface="Arial Black"/>
              </a:rPr>
              <a:t>       </a:t>
            </a:r>
            <a:r>
              <a:rPr b="0" lang="en-US" sz="4800" spc="-1" strike="noStrike">
                <a:solidFill>
                  <a:srgbClr val="ffe103"/>
                </a:solidFill>
                <a:latin typeface="Arial Black"/>
              </a:rPr>
              <a:t>Character Word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Courag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103"/>
                </a:solidFill>
                <a:latin typeface="Arial Black"/>
              </a:rPr>
              <a:t>By: Jeanna Evans-Perr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b17"/>
                </a:solidFill>
                <a:latin typeface="Arial Black"/>
              </a:rPr>
              <a:t>     </a:t>
            </a:r>
            <a:r>
              <a:rPr b="0" lang="en-US" sz="4400" spc="-1" strike="noStrike">
                <a:solidFill>
                  <a:srgbClr val="ff8b17"/>
                </a:solidFill>
                <a:latin typeface="Arial Black"/>
              </a:rPr>
              <a:t>What Does It Mea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6720" y="2327400"/>
            <a:ext cx="734076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Courage means that you are BRAVE and you will not let or  ANYONE or ANYTHING!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0" lang="en-US" sz="4400" spc="-1" strike="noStrike">
                <a:solidFill>
                  <a:srgbClr val="ff8b17"/>
                </a:solidFill>
                <a:latin typeface="Arial Black"/>
              </a:rPr>
              <a:t>Character Wor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You need to be good in school and be a good example to other kids below you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103"/>
                </a:solidFill>
                <a:latin typeface="Arial Black"/>
              </a:rPr>
              <a:t>Also you need to have a good attitude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BE GOOD TO YOUR FRIENDS AND TEACHERS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1:56:16Z</dcterms:created>
  <dc:creator>Student</dc:creator>
  <dc:description/>
  <dc:language>en-US</dc:language>
  <cp:lastModifiedBy>Student</cp:lastModifiedBy>
  <dcterms:modified xsi:type="dcterms:W3CDTF">2011-05-25T12:22:07Z</dcterms:modified>
  <cp:revision>4</cp:revision>
  <dc:subject/>
  <dc:title>       Character Word</dc:title>
</cp:coreProperties>
</file>